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7029-DC61-47D4-85C3-51582A02BF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106-CD90-4874-AA59-70782E11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AD5-1AE5-4C4C-BAEC-412B8F48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D98-34FD-41C1-AFAE-3234A3CF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216-B3C8-4828-95D6-9D2C3345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9B8-538E-45E9-B849-3F303F57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24D7-6E3D-4812-8E91-76F9B46E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77DC-C499-44A8-9955-562CD361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ADB-F0DC-48BF-ABF7-DCE656CB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83CA-795F-4991-A157-1220B8FD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CEF-19AD-42B7-9FF8-3600B578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97C-D64E-4DAC-AEA1-7DBD8D88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27E-7E0A-41B2-BEAE-B496AA2F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6C03-7380-4A11-B194-2ABB8F1E8C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5-09-15T11:00:12Z</dcterms:modified>
  <cp:revision>9</cp:revision>
  <dc:subject>England in 1060 hastings 1066</dc:subject>
  <dc:title>England in 1060 hastings 1066</dc:title>
</cp:coreProperties>
</file>